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F1B3-1D89-4564-BD70-A494D52BF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 hydrogen ion is actually transfer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erred proton binds to an unshared orbital of the second water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ter molecule that loses the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only 1 molecule out of 554,000,000 water molecules that is dissoci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orners are orbitals with unshared electrons and a weak nega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re occupied by hydrogen atoms that have polar covalent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7179-A4E5-4C4E-B2D0-2341604A4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32D0-353C-486E-9577-144488DF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B493-C591-4846-A273-692556B0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1FF0-8760-49EE-9246-FE3DC29F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0188-E175-4C03-BC4A-0AFF233C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A419-EAB6-40AA-9ECC-2EB39CF7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6389-F467-4EB7-B26C-21CBC78B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62F4-7CC5-4E42-A489-A3E4367C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0D14-C02A-4172-9103-8A8CD27F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39BB-B145-4A3F-8D65-10428674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40FF-21B2-4142-9BAD-5C5C5478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FD97-E594-46B7-8513-6DADDF35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9B1E-6DC7-443E-A188-6B2549A42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766800"/>
            <a:ext cx="9144000" cy="6135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0"/>
            <a:ext cx="853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bitha"/>
              </a:rPr>
              <a:t>Water – </a:t>
            </a:r>
            <a:r>
              <a:rPr b="1" lang="en-US" sz="5400" spc="-1" strike="noStrike">
                <a:solidFill>
                  <a:srgbClr val="000000"/>
                </a:solidFill>
                <a:latin typeface="Tabitha"/>
              </a:rPr>
              <a:t>Chapter</a:t>
            </a:r>
            <a:r>
              <a:rPr b="1" lang="en-US" sz="6000" spc="-1" strike="noStrike">
                <a:solidFill>
                  <a:srgbClr val="000000"/>
                </a:solidFill>
                <a:latin typeface="Tabitha"/>
              </a:rPr>
              <a:t>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Evaporative Coo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24080" y="152388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oling of a surface occurs when the liquid evapo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responsible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rating earth’s cl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ilizes  temperature in aquatic eco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venting organisms from overh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4721400"/>
            <a:ext cx="1760400" cy="2136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934320" y="3124080"/>
            <a:ext cx="1904760" cy="1675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28600" y="1792440"/>
            <a:ext cx="243828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Density of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st dense at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acts until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ands from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to 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3657600" cy="2560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5840" y="3429000"/>
            <a:ext cx="85723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ensity of w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ents water from freezing from the bottom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ce forms on the surface first—the freezing of the water releases heat to the water below creating ins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s transition between season less abrup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582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ater reaches 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, water becomes locked into a crystalline lattice with each molecule bonded to to the maximum of four part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ice starts to melt, some of the hydrogen bonds break and some water molecules can slip closer together than they can while in the ic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e is about 10% less dense than water at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878"/>
          <a:stretch/>
        </p:blipFill>
        <p:spPr>
          <a:xfrm>
            <a:off x="1600200" y="3602160"/>
            <a:ext cx="6934320" cy="2950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16480" y="6232680"/>
            <a:ext cx="779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Solvent for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09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ous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rophi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nic compounds dissolve in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 molecules (generally) are water solu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rophob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polar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808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27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Most biochemical reactions involve solutes dissolved in wat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re are two important quantitative proprieties of aqueous solu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Concen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Concentration of a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lecular weight – sum of the weights of all atoms in a molecule (dalt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le – amount of a substance that has a mass in grams numerically equivalent to its molecular weight in dalt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ogadro’s number – 6.02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ole of one substance has the same number of molecules as a mole of any other subs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715000" y="4422600"/>
            <a:ext cx="34290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Molar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760" y="10764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ncentration of a material in solution is called its mola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one molar solution has one mole of a substance dissolved in one liter of solvent, typically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895480"/>
            <a:ext cx="830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culate a one molar solution of  sucrose, 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362916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= 12 dal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 = 1 da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 = 16 dal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3614760"/>
            <a:ext cx="3657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 x12 = 1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x 22 =  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 x 11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960" y="5257800"/>
            <a:ext cx="7696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2M sol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.05 M sol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.2 M sol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610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asionally, a hydrogen atom shared by two water molecules shifts from one molecule to the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ydrogen atom leaves its electron behind and is transferred as a single proton -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drogen 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ater molecule that lost a proton is now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drox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a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ecule wit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tra prot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hydroniu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 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Dissociation of Water Molec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7375"/>
          <a:stretch/>
        </p:blipFill>
        <p:spPr>
          <a:xfrm>
            <a:off x="3962520" y="4267080"/>
            <a:ext cx="4806720" cy="1600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89520" y="6019920"/>
            <a:ext cx="2003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Unnumbered Fig. 3.4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8001000" cy="69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impler way to view this process is that a water molecule dissociates into a hydrogen ion and a hydroxide 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 &lt;=&gt;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reaction is rever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equilibrium the concentration of water molecules greatly exceeds that of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pure water only one water molecule in every 554 million is dissoci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equilibrium, the concentration of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r 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 (25°C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Acids and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800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ubstance that increases the hydrogen ion concentration in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ubstance that reduces the hydrogen ion concentration in a solution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bases reduce 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rectly by accepting hydrogen 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acids and bases complete dissociate in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acids and bases dissociate only partially and reversib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12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981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5575"/>
          <a:stretch/>
        </p:blipFill>
        <p:spPr>
          <a:xfrm>
            <a:off x="5322960" y="838080"/>
            <a:ext cx="3821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Properties of Wa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Polar molec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ohesion and adhe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High specific he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Density – greatest at 4</a:t>
            </a:r>
            <a:r>
              <a:rPr b="1" lang="en-US" sz="3600" spc="-1" strike="noStrike" baseline="30000">
                <a:solidFill>
                  <a:srgbClr val="003399"/>
                </a:solidFill>
                <a:latin typeface="Times New Roman"/>
              </a:rPr>
              <a:t>o</a:t>
            </a: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Universal solvent of lif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5181480" y="361944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pH Sca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 scale in any aqueous solutio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] [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s the degree of acidity (0 – 1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biologic fluids are in the pH range from 6 –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H unit represents a tenfold difference (scale is logarithm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mall change in pH actually indicates a substantial change in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cent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Times New Roman"/>
              </a:rPr>
              <a:t>Probl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44792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How much greater is the [ H</a:t>
            </a:r>
            <a:r>
              <a:rPr b="1" lang="en-US" sz="3200" spc="-1" strike="noStrike" baseline="30000">
                <a:solidFill>
                  <a:srgbClr val="00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] in a solution with pH 2 than in a solution with pH 6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3733920"/>
            <a:ext cx="79250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 of 2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] of 1.0 x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/10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 of 6 = [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] of 1.0 x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/1,000,00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,000 times gr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Buff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868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ubstance that eliminates large sudden changes in 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ffers help organisms maintain the pH of body fluids within the narrow range necessary for lif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combinations of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cceptors and donors forms in a solution of weak acids or 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 by accepting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from solutions when they are in excess and by donating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when they have been deple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Times New Roman"/>
              </a:rPr>
              <a:t>Acid Precipit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in, snow or fog with more strongly acidic than pH of 5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st Virginia has recorded 1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t Tennessee reported 4.2 in 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rs when sulfur oxides and nitrogen oxides react with water in the atmo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wers pH of soil which affects mineral solubility – decline of for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wer pH of lakes and ponds – In the Western Adirondack Mountains, there are lakes with a pH &lt;5 that have no f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20120" y="1752480"/>
            <a:ext cx="1164960" cy="1417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914400" cy="11127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0" y="5181480"/>
            <a:ext cx="116532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Polarity of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water molecule two hydrogen atoms form single polar covalent bonds with an oxygen atom. Gives water more structure than other liqu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oxygen is more electronegative, the region around oxygen has a partial negative char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gion near the two hydrogen atoms has a partial positive char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ater molecule is a polar molecule with opposite ends of the molecule with opposite char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019920" y="4267080"/>
          <a:ext cx="2813040" cy="21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4267080"/>
                    <a:ext cx="28130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153280" cy="472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 has a variety of unusual properties because of attractions between these polar molec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lightly negative regions of one molecule are attracted to the slightly positive regions of nearby molecules, forming a hydrogen b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water molecu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orm hydroge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nds with up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neighb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800600" y="3468600"/>
            <a:ext cx="4038480" cy="3062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733920" y="6248520"/>
            <a:ext cx="990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.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YDROGEN  B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38102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ld water molecules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ch water molecule can form a maximum of 4 hydrogen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ydrogen bonds joining water molecules are weak, about 1/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s strong as covalent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form, break, and reform with great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1640" y="9907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raordinary Properties that are a result of hydrogen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hesive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ists changes in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 heat of vapo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ands when it free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satile sol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29200" y="4648320"/>
            <a:ext cx="373392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Organisms Depend on Cohe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hesion is responsible for the transport of the water column in 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hesion among water molecules plays a key role in the transport of water against gravity in 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hesion, cling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one substance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other, contribut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o, as water adher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the wall of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s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640" y="91440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ydrogen bonds hold the substance together, a phenomenon called cohe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827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5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face tension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measure of the force necessary to stretch or break the surface of a liquid, is related to cohe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has a greater surface tension than most other liquids because hydrogen bonds among surface water molecules resist stretching or breaking the su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behaves as i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ered by an invisib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animals can stand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k, or run on wa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breaking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6000" t="0" r="10001" b="0"/>
          <a:stretch/>
        </p:blipFill>
        <p:spPr>
          <a:xfrm>
            <a:off x="5410080" y="3429000"/>
            <a:ext cx="3048120" cy="2720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37720" y="6232680"/>
            <a:ext cx="779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.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Moderates Temperatures on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7960" y="27432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kinetic energ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eratu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or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difference in cal and C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specific he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04920" y="2660760"/>
            <a:ext cx="4038480" cy="4120920"/>
            <a:chOff x="304920" y="2660760"/>
            <a:chExt cx="4038480" cy="4120920"/>
          </a:xfrm>
        </p:grpSpPr>
        <p:grpSp>
          <p:nvGrpSpPr>
            <p:cNvPr id="82" name=""/>
            <p:cNvGrpSpPr/>
            <p:nvPr/>
          </p:nvGrpSpPr>
          <p:grpSpPr>
            <a:xfrm>
              <a:off x="308520" y="2665440"/>
              <a:ext cx="4030560" cy="4111560"/>
              <a:chOff x="308520" y="2665440"/>
              <a:chExt cx="4030560" cy="411156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308520" y="2665440"/>
                <a:ext cx="4030560" cy="822240"/>
                <a:chOff x="308520" y="2665440"/>
                <a:chExt cx="4030560" cy="82224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64320" y="2665440"/>
                  <a:ext cx="39182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lsius Scale at Sea Leve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08520" y="2665440"/>
                  <a:ext cx="4030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308520" y="3487680"/>
                <a:ext cx="1171440" cy="822240"/>
                <a:chOff x="308520" y="3487680"/>
                <a:chExt cx="1171440" cy="82224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364320" y="3487680"/>
                  <a:ext cx="10591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</a:t>
                  </a:r>
                  <a:r>
                    <a:rPr b="1" lang="en-US" sz="2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08520" y="3487680"/>
                  <a:ext cx="11714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1479960" y="3487680"/>
                <a:ext cx="2858760" cy="822240"/>
                <a:chOff x="1479960" y="3487680"/>
                <a:chExt cx="2858760" cy="82224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535400" y="3487680"/>
                  <a:ext cx="27468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ater boil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479960" y="3487680"/>
                  <a:ext cx="28587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08520" y="4309920"/>
                <a:ext cx="1171440" cy="822600"/>
                <a:chOff x="308520" y="4309920"/>
                <a:chExt cx="1171440" cy="8226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64320" y="4309920"/>
                  <a:ext cx="10591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</a:t>
                  </a:r>
                  <a:r>
                    <a:rPr b="1" lang="en-US" sz="2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08520" y="4309920"/>
                  <a:ext cx="117144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1479960" y="4309920"/>
                <a:ext cx="2858760" cy="822600"/>
                <a:chOff x="1479960" y="4309920"/>
                <a:chExt cx="2858760" cy="82260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1535400" y="4309920"/>
                  <a:ext cx="274680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uman body temperatur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479960" y="4309920"/>
                  <a:ext cx="285876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308520" y="5132520"/>
                <a:ext cx="1171440" cy="822240"/>
                <a:chOff x="308520" y="5132520"/>
                <a:chExt cx="1171440" cy="8222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364320" y="5132520"/>
                  <a:ext cx="10591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</a:t>
                  </a:r>
                  <a:r>
                    <a:rPr b="1" lang="en-US" sz="2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08520" y="5132520"/>
                  <a:ext cx="11714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1479960" y="5132520"/>
                <a:ext cx="2858760" cy="822240"/>
                <a:chOff x="1479960" y="5132520"/>
                <a:chExt cx="2858760" cy="8222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535400" y="5132520"/>
                  <a:ext cx="27468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om temperatur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479960" y="5132520"/>
                  <a:ext cx="28587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08520" y="5954760"/>
                <a:ext cx="1171440" cy="822240"/>
                <a:chOff x="308520" y="5954760"/>
                <a:chExt cx="1171440" cy="8222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64320" y="5954760"/>
                  <a:ext cx="10591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r>
                    <a:rPr b="1" lang="en-US" sz="2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08520" y="5954760"/>
                  <a:ext cx="11714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1479960" y="5954760"/>
                <a:ext cx="2858760" cy="822240"/>
                <a:chOff x="1479960" y="5954760"/>
                <a:chExt cx="2858760" cy="8222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535400" y="5954760"/>
                  <a:ext cx="27468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ater freez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479960" y="5954760"/>
                  <a:ext cx="28587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304920" y="2660760"/>
              <a:ext cx="4038480" cy="412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0" y="5181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78120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er stabilizes air temperatures by absorbing heat from warmer air and releasing heat to cooler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er can absorb or release relatively large amounts of heat with only a slight change in its own 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280" y="1828800"/>
            <a:ext cx="57913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ree-fourths of the earth is covered by water.  The water serves as a large heat sink responsible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ention of temperature fluctuations that are outside the range suitable fo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stal areas having a mild cli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table marin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Specific Heat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is the amount of heat that must be absorbed or lost for  one gram of a substance to change its temperature by 1</a:t>
            </a:r>
            <a:r>
              <a:rPr b="1" lang="en-US" sz="2800" spc="-1" strike="noStrike" baseline="30000">
                <a:solidFill>
                  <a:srgbClr val="003399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9240" y="2666880"/>
            <a:ext cx="3725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6T22:42:44Z</dcterms:created>
  <dc:creator>Pre-Installed-User</dc:creator>
  <dc:description/>
  <dc:language>en-US</dc:language>
  <cp:lastModifiedBy>User</cp:lastModifiedBy>
  <dcterms:modified xsi:type="dcterms:W3CDTF">2012-01-27T01:47:58Z</dcterms:modified>
  <cp:revision>7</cp:revision>
  <dc:subject/>
  <dc:title>Properties of Water</dc:title>
</cp:coreProperties>
</file>